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686-8B4E-4AD8-A191-802463E9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2CC-3668-4524-96DC-9DC8A242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8F8-6B23-4B1D-BEC4-9525C2A8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977-8897-4793-885F-4D37959F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1C3-74BD-4D16-A5D9-E7E4195B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4B0-B5CC-463C-9DEF-8868857B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C75-4FDB-4FFE-99A8-DDBE785F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FB5-8CE6-4484-997D-F5F1CC8C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BB8-A39E-4E86-B0E7-5FC3C50E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948-3EEC-4870-8400-4E62698E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7D0-B897-49D3-8381-A24631F2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5BE-A683-4718-B2EE-C5260B4C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4745-E72A-4226-8E4B-83E7FAFB8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19664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09T20:40:13Z</dcterms:modified>
  <cp:revision>38</cp:revision>
  <dc:subject/>
  <dc:title>Texto</dc:title>
</cp:coreProperties>
</file>